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3E2-FEDB-4A6A-96CC-42B73649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11A-62C7-496E-9905-2A6351EB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FE6-7FA5-498E-85C1-A12BEF49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A6B-D37E-461D-B23B-3112691E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6E5-07DF-4528-AFDE-07D51B77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BB9-EF66-483E-908A-5576871A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8CA-47E6-4EFE-A4DB-00EECB1A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D78-EDA1-4434-B4CA-8990602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152-D1A0-4494-9544-9D06D127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380-91FA-4956-BC84-5C7B5D2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900-6517-47EA-BA8F-D5C0F77F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F9E-BC2C-4095-8C83-2684ADE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AA66-1BF3-4A7E-9046-0B224C3F3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2.1  Properties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133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ive Properties of Addition and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004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Properties of Addition and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648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ty Properties of Addition and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590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 + B = B +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B = 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 + (B + C) = (A + B) 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657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(BC) = (AB)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0292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 + 0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105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 * 1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21932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: Us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3716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ing Proper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Name each property sho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352680" cy="1473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8839080" cy="1217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5257800"/>
            <a:ext cx="8686800" cy="89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62520" y="19051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Commutative Property of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43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ssociative Property of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2971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Identity property of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7242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$2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6324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6324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questions from objective 1 or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69720"/>
            <a:ext cx="9144000" cy="6297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16765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$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Comm. Prop. Of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886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Identity prop. of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80988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Associative Prop. Of Multi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867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1828800"/>
            <a:ext cx="6400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ifference between the  Commutative and Associative properties. Provide an example of each description. Use your own words to describe an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51055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6:17:16Z</dcterms:created>
  <dc:creator>BRSD</dc:creator>
  <dc:description/>
  <dc:language>en-US</dc:language>
  <cp:lastModifiedBy>grahams</cp:lastModifiedBy>
  <dcterms:modified xsi:type="dcterms:W3CDTF">2011-10-24T13:28:10Z</dcterms:modified>
  <cp:revision>19</cp:revision>
  <dc:subject/>
  <dc:title>Slide 1</dc:title>
</cp:coreProperties>
</file>